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80FD-C323-4F13-8093-269D16D5A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604B-4A35-45C4-BBBF-2C5069C9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4161-0643-4305-ABFC-C8990105C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3A0A-113A-4CE4-93CA-3A0BBC384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FE69-2FEF-4CD6-8234-122A2810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E1C2-21DE-4DE1-A3A7-009CC27F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E237-F7CE-4419-B2D5-4A54C875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47A6-49EB-4D9D-ACF1-9D872B27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1807-C024-44A0-9DE0-52BF5C5B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C50C-58DD-453D-9478-7FB44BF0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8602-BE35-4A71-966D-AD001BE5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1E10-2232-4C06-9B5A-83169734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644C-6F60-4A10-B8AB-74143728A9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16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У КЛИНИЧКОМ ИСПИТИВАЊ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1 Увод у фармацеутску пракс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– основни принцип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 клиничка истраживања се морају спроводити према етичким принципима проистеклим из Хелсиншке декларације, важећим националним прописима и ДК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но је утврдити однос ризика и користи по испитан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и принципи су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а, безбедност и добробит учесник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– основни принцип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о испитивање мора имати јасну и прецизну оправданост у ранијим доступним клиничким и претклиничким истраживањима, јасну научну заснованост и исцрпан протокол истраживањ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о истраживање се спроводи у скалду са протоколом који мора бити одобрен од стране Етичког одбо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– основни принцип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линичком истраживању за све фазе истраживања као и за све учеснике је одговоран квалификовани, главни истражива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и истраживач формира свој тим – медицински стручњаци који имају вештине, искуство и знање које им омогућава активно учешће у клиничком истраживањ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– основни принцип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ти/учесници у клиничком истраживању морају добровољним пристанком потврдити учешће у студиј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 подаци из клиничког истраживања треба да буду евидентирани и архивирани, уз поштовање приватности ист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арентна обрада и представљање резултата истражива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 који се испитује мора бити произведен у складу са ДП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 фазе истраживања подлежу ригорозном систему контрол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– основни елемен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нзор (наручилац испитивањ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и истражива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шура за истраживач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ол клиничког испити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ани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је за пацијенте и изјаве саглас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– основни елемен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чки одбор (Е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дне оперативне процеду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пек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жељени догађаји, нежељене реак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биљни нежељени догађај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чекиване нежељене реакције (eng. SUSA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орно лице за фармаковигиланц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– основни елемен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понзо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оран за селекцију испитивача и устан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жан је да обезбеди осигурање или накнаду испитивачу/институцији, уколико то прописују важећи пропис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ланирању истраживања мора бити сигуран у тачност ранијих претклиничких и клиничких истраживања која су у блиској вези са испитиваним лек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– основни елемен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понзо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збеди квалификовано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обље које ће бити одговорно за спровеђење мониторинга истраживањ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вим фазама, за анализу података, за верификацију података, за спровођење статистичке анализе и припреме извештаја испитивањ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– основни елемен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понзо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оран је за континуирану процену сигурности испитиваног произв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авезан је да свим заинтересованим установама, исспитивачима и ЕО као и осталим регулаторним телима достави извештај о свим нежељеним реакцијама ан лек које су биле тешке и неочекива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рају испитивања подноси извештај регулаторним агенцијам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– основни елемен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ониторинг клиничког испити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гледање процеса клиничког истраживања и потврђивање да се све фазе истраживања спроводе, документују и пријављују у складу са протоколом, ДКП-ом, стандардним оперативним процесима и важећим надлежним процесим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У КЛИНИЧКОМ ИСПИТИВАЊ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лекова се одвија у две фаз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периментално испитивање лек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о испитивање лек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000 полазних хемијских супстан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 " кандидата " за претклиничка истражив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" кандидата" за клиничка истраживањ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нови ле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клиничких истраживања око 8 год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own Arrow 6"/>
          <p:cNvSpPr/>
          <p:nvPr/>
        </p:nvSpPr>
        <p:spPr>
          <a:xfrm>
            <a:off x="5724360" y="1989000"/>
            <a:ext cx="142920" cy="43200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Down Arrow 7"/>
          <p:cNvSpPr/>
          <p:nvPr/>
        </p:nvSpPr>
        <p:spPr>
          <a:xfrm>
            <a:off x="5796000" y="3068640"/>
            <a:ext cx="144360" cy="360360"/>
          </a:xfrm>
          <a:prstGeom prst="downArrow">
            <a:avLst>
              <a:gd name="adj1" fmla="val 50000"/>
              <a:gd name="adj2" fmla="val 5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Down Arrow 8"/>
          <p:cNvSpPr/>
          <p:nvPr/>
        </p:nvSpPr>
        <p:spPr>
          <a:xfrm flipH="1">
            <a:off x="5796000" y="4076640"/>
            <a:ext cx="163440" cy="36036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– основни елемен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тички одбор – ЕО (комите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но тело институционално, регионално, национално или међународно које чини непран број здравствених радника/научника и нездравствених члан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 дужност је да обезбеди заштиту права, сигурности и добробити испитаника укључених у клиничко испитивањ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вљ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авности достави о горе наведеној зашти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– основни елемен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лавни истражива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кован образовањем, обуком и искуствома да би преузео одговорности за спровођење клиничке студ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 документовати своје квалифик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знат је са леком који се испиту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 познаје међународне и националне регулати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рађује током  мониторинга и надз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егира задатке другим квалификованим истраживач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аже адекватним ресурсима за извођење студ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– основни елемен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ол клиничког истраживањ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 који садржи детаљан приказ дизајна клиничког истраживањ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вом документу након кратког увода се описују: циљ/циљеви истраживања, план и методологија, исходи који се мере у истраживању, укључујући и искључујући критеријуми, интервенције и поредбене терапијске опције, ризици који се односе на примену лека, начини превазилажења предвиђених ризика, итд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– основни елемен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рошура за истраживач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 који садржи свеобухватан увид у све претклиничке и клиничке податке о испитиваном производу, који су значајни за његово тестирање на људим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– основни елемен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формисани пристанак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 где испитаник добровољно потврђује сагласност да ће по упознавању о свим аспектима испитивања која су значајна за доношење одлуке учествовати у извођењу нклиничког истраживањ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но је да испитаник потпише овај документ пре било какве процедуре (лаб. Анализа; попуњавање упитника...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 се повући уколико пацијент не жели више да учествује у студиј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– основни елемен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ндардне оперативне процеду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рнице за постизањеуниформности при извођењу специфичних функциј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спекциј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чин надлежне власти којим се спроводи званични преглед докумената установа, досијеа и свих других досптупних података за које власти процене да су од интереса за испитивањ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– основни елемен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жељени догађај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ланирани и неочекивани испад било у лабораторијском смислу било у клиничком налазу који се временски може повезати са узимањем лека али се узрочно последична веза не може доказат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– основни елемен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збиљна нежељена реакциј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. serious adverse еvе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било која нежељена појава везана за здравље испитаника која без обзира на дозу изазива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мрт, непосредно угрожава живот, инвалидност, хоспитализацију или продужетак хоспитализациј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– основни елемен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чекивана нежељена реакциј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g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pected Unexpected Serious Adverse Reaction - SUS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 реакција на лек која није описана у сажетку карaктеристикa лекa нити у брошури за истраживача, чиј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а и ток су непознат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огу се претпоставити на основу фармакокинетичке особине ле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орно лице за фармаковигиланц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 га одредити носилац дозволе за промет л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ницира са Агенцијом, припрема ПСУР, прикупља податке о нежељеним реакциј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авештава Агенцију за лекове и о реакцијама које су се јавиле у другим земљ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У КЛИНИЧКОМ ИСПИТИВАЊУ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периментално испитивање лек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а токсичн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а токсичн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тогени потенцијал новог ле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тагени потенцијал новог ле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церогени потенцијал новог ле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о испитивање лека се одвија у 4 фаз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ка достављања ПСУР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6 месеци у прве две год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м годишње у друге 2 год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им на сваке 3 год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 ПС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жета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д са основним подацима о ле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ак земаља где лек има дозвол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 дотадашњих безбедоносних м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е у СКЛ и ПИЛ због безбедоносних разло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 ПС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м изложености пацијената ле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индивидуалних случаје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ак случаје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еларни приказ нежељених реак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а појединих случаје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туд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јаве изостанка терапијске ефикас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на укупне безбед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ључа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е које може предузети Агенција за леков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лачење лека са тржиш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е у склу или пил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мо здравственим радниц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О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ац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рђу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ети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ман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о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рђу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икасн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о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брано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јн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ређу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н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цеб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т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шћен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де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с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љ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у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в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жељен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ав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О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ng.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trial - stud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уд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врд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лош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динамс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т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но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нтифику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жеље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орпциј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рибуциј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болиза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крециј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но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е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рд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егов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ношљивос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икасн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а фаза клиничког испити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г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first in men studies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се спроводе у здравој популацији испитаника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-80) у болничким условима како би се евалуирали фармакокинетички параметри испитиваног лека у временском интервалу који одговара вишеструком времену полуелиминације при чему се примењују дозе лека које су потврђене претходним претклиничким истраживањима како би се сагледали ефекти и безбедност испитиваног л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acending dose studies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ascending dose studies 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ати студија прве фазе указују на фармакокинетику лека, механизам дејства и нежељена дејства која прате повећавање дозе л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ледећу, другу фазу клиничког испитивања лека, прелази око 70% полазних испитиваних супстанц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 фаза клиничког испити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вој фази испитивани лек се први пут примењује у популацији пацијената (N=100-200) који имају болест за чије лечење је лек намењен са циљем да се сазнања о безбедности потврђена у првој фази додатно прошире, али и да се утврди да ли је лек ефикасан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друге фазе се могу поделити на студије фазе 2 А и Б тип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зајн студија друге фазе подразумева или постојање само једне групе пацијената која је изложена новом леку која може бити спроведена у једној или две фазе, или може укључивати и контролну групу пацијената која ће током испитивања бити изложена плацебу или стандардној терапиј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ати студија друге фаз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линичког испитивања лекова коригују истраживачка питања и дизајн истраживања будуће, треће фазе клиничког истражив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 33% полазних испитиваних лекова се ипситују у трећој фази клиничког испитивања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ћа фаза клиничког испити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треће фазе - најзахтевније у организационом смислу, трају дуже и захтевају значајнија економска улагања у односу на прве две фазе клиничког испитива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тицентричне, рандомизиране и дупло слепе студијама које укључују велики број пацијената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-3000 и виш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и лек се пореди са „златним стандардом“, односно најефикаснијим леком за болест за чије лечење је лек намење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и исходи који се евалуирају у студијама треће фазе су: степен прогресије болести, степен излечења, учесталост нежељених дејстава и степен смрт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-30%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азних испитиваних лекова наставља испитивање у четврту фазу клиничког испитивања леков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врта фаза клиничког истражи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маркетиншко праћење лек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вој фази клиничког испитивања, лек се примарно прати у смислу детекције нежељених дејстава, али и у смислу ефикасности и исплaтив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У КЛИНИЧКОМ ИСПИТИВАЊ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g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Clinical Pract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GCP) – међународни систем смерница чији су основни принцип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чка и научна униформност у свим његовим фазама: планирању, спровођењу, праћењу, надгледању и извештавању резулт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 квалитетног клиничког испитивања лекова и података о испитивањ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збеђивањ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беднос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ватности, достојанства и добробит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сник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игурање научне валидности и кредибилитета подата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а фармацеута у клиничким студијама са лекови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1 Увод у фармацеутску прак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476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ионална област деловања дипломираног фармацеута су примарно леков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 својим знањем и вештинама може допринети бољем развоју лека са фармацеутског аспекта који се односи на: састав, дозирање, начин примене, али и на индикације, контраиндикације, склоност ка интеракцијама и изазивању нежељених реакција испитиваног ле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д квалификација из домена Добре клиничке праксе, фармацеут мора поседовати знања и поступати у складу са смерницама садржаним у Доброј лабораторијској пракси, Доброј произвођачкој пракси како би се обезбедио квалитет у свим фазама испитивања ле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62064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ање леком који се испитује у клиничкој студији јесте одговорност фармацеут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ијему студијског лека, фармацеут мора проверити да ли је лек транспортован у складу са упутствима које је одредио спонзор клиничког истраживањ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ски лек се мора чувати у условима (температура, влажност, изложеност светлу) који су одређени студијском документацијом коју је доставио спонзор истраживањ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о документације који прати клиничко истраживање (eng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macy manua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представља фармакотерапијски приручник и садржи информације које се односе на припрему, дозирање, примену и означавање ле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 мора евидентирати сваки „улаз“ лека који се испитује у клиничкој студији попуњавањем обрасца који се у студијској документацији означава као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 accountability for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ји је део обавезне документације која прати клиничку студиј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жност фармацеута је да детаљно упозна пацијента са начином примене и дозирањем студијског лека, као и са обавезним поступцима у ситуацијама када пацијент заборави да узме предвиђену дозу или уколико се појаве нежељена дејства студијског ле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и поступак са леком се евидентира, а документација архивира ради будућих мониторинга и инспекциј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линичкој студији, фармацеут може професионално бити ангажован од стране спонзора и као монито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У КЛИНИЧКОМ ИСПИТИВАЊ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лсиншка декларација -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рт документа о етичком кодексу испитивања људи први пут представљен 1961. године (Светско медицинско удружење,СМУ), а усвојен на 18.-ој Генералној скупштини СМУ, у јуну 1964 .у Хелсинки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лсиншка декларација – основни етички принцип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но је да истраживачи детаљно познају етичке, међународне и националне правне и регулативне захтеве које се односе на заштиту испитан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 дужност лекара је да заштити живот, здравље, приватност и достојанство испитан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лсиншка декларација – основни етички принцип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раживања на људима морају бити усклађена са опште прихваћеним научним принципима и са валидним доказима из научне литературе, релевантним подацима и лабораторијским испитивањима на животиња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раживања су оправдана само ако постоји вероватноћа да ће испитаници имати корист од испитивањ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овођење клиничких студија у складу са принципима ДКП-е омогућава учесницима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а, безбедност и поверљивост податак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ч добре клиничке праксе, одобрен од стране реулаторних тела у Европској Униј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К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ђународни, научни и етички стандард квалитета за планирање, спровођење, праћење и извештавање о клиничким студијам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2T10:43:07Z</dcterms:created>
  <dc:creator>Author</dc:creator>
  <dc:description/>
  <dc:language>en-US</dc:language>
  <cp:lastModifiedBy>Marina Kostic</cp:lastModifiedBy>
  <dcterms:modified xsi:type="dcterms:W3CDTF">2023-09-11T10:08:00Z</dcterms:modified>
  <cp:revision>44</cp:revision>
  <dc:subject/>
  <dc:title>ДОБРА КЛИНИЧКА ПРАКСА У КЛИНИЧКОМ ИСПИТИВАЊУ</dc:title>
</cp:coreProperties>
</file>